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43B-DF84-4D1E-BB57-08E6FBE34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263-5889-466E-AA9A-4171CB872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65A-70B0-4E7F-AE4A-DE254380E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18D-81B4-4DEF-9B37-388DD3A5A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99E8-208B-4848-9007-DA0637FC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6D2-AA1A-4642-855C-24B8DC27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B7B-26CD-40BF-88FD-8F0334E8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D1E-C379-40A4-83FF-73BE48B0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4691-4254-44FA-93A1-9F665C9D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755C-A4CC-48C6-A141-9DC542F6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0789-C92F-4297-B21D-63AC0282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995A-B374-432C-A188-3350EC42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BEB7-2521-41FD-88FE-B5D43667E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ly Confused Words Part 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S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compli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co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serves to be paid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serves to be paid 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li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and th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9" dur="2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ll ready    b) al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nce class h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oved on to intermediat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nce class ha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read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on to intermediate le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ffects    b)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fully understands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genetically modified food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fully understands th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ffec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genetically modified food y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ssistance    b) assi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ice has become so busy the manager has decided to hire two new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ffice has become so busy the manager has decided to hire two 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ssist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they’re    b) the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make su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o o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make sur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y’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y to go o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weather    b) wh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experience the best Southern Californi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isit in April or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want to experience the best Southern California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a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visit in April or M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ho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n’t take more than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houldn’t take more than an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o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ccep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exce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going camping this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re all going camping this su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cep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Sara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ambigu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ambival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erson cannot make a choice or doesn’t have a strong opinion, he or she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person cannot make a choice or doesn’t have a strong opinion, he or she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mbival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) devi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b) de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plan to get my students to speak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need to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devis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lan to get my students to speak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2:22:19Z</dcterms:created>
  <dc:creator>SCE ESL PROGRAM</dc:creator>
  <dc:description/>
  <dc:language>en-US</dc:language>
  <cp:lastModifiedBy>SCE ESL PROGRAM</cp:lastModifiedBy>
  <dcterms:modified xsi:type="dcterms:W3CDTF">2012-04-02T22:48:58Z</dcterms:modified>
  <cp:revision>2</cp:revision>
  <dc:subject/>
  <dc:title>Commonly Confused Words</dc:title>
</cp:coreProperties>
</file>